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E388-4235-4269-A0B6-9BA1CBA306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design example here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545D-C88F-4B5A-BCEB-2D62B735A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8368-CB78-4DAA-A9B7-E9001BD5AF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F840-935A-4E85-BCBB-212C69993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3ABA-4C2E-4B7D-A7D8-930369BCA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C24D-3D60-4AD8-B663-BBAA0C8D0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29D-5D08-42E8-B0AB-556D6D51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98E-C71A-45F3-9A90-B3282C59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876-A5E7-4B71-9F12-944F4BE6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F6E-86EB-402E-AA76-D7EDDC99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5475-82E3-4DFF-BD91-E9E6C181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C97F-FD87-4599-830B-A0B934A7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6C0E-1B87-4912-9C4C-FFEC1CF6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19B9-3C9C-402A-8D3A-E094730B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D1CE-7AFF-4F62-83C4-E4296B1D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4047-7B54-4488-AE23-EA841B31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A730-675E-4B95-919A-A76984FB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61A-DAE0-49B5-BF07-DE860AF9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F145-6122-43A5-8D94-6343EFDB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1BFF-4F2A-4CFB-929B-789A7232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CCC3-A382-48FD-BC6D-4074FBEA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9998-E09C-46D9-85C0-EB2B385C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F72B-B8BD-4DA6-91CA-9B9586FD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0F1-4A80-4639-861C-3E84BC9D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2E08-0388-4BAC-873E-753466B5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9F9-1AE4-459F-B2D2-22EF8792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419-69FD-4D0F-A832-C3041364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8F7-62B5-43F5-9099-CBD9D957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3AA-477D-4B83-BFCC-3DB6B8F7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CA4-BDD3-4FA2-A118-8B2BD584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B0C1-F419-4459-B5CE-8CA085718D6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97DF-1F87-44DD-8C5E-23060C1C6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500040" y="85716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rica RISING Malawi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285840" y="3143160"/>
            <a:ext cx="88581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gis Chikowo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zi Mhango, Desta Lulseged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aac Nyoka, Sieg Sna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6929280" y="6000840"/>
            <a:ext cx="1857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8 Ma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tcheu si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Diagram 1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6387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dza 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Diagram 1" descr=""/>
          <p:cNvPicPr/>
          <p:nvPr/>
        </p:nvPicPr>
        <p:blipFill>
          <a:blip r:embed="rId1"/>
          <a:stretch/>
        </p:blipFill>
        <p:spPr>
          <a:xfrm>
            <a:off x="1181160" y="1454040"/>
            <a:ext cx="69627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30280" y="776160"/>
            <a:ext cx="7473960" cy="5878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7557480" y="6488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napp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97280" y="0"/>
            <a:ext cx="76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‘</a:t>
            </a: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Mother and baby’ trial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90092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ther trial treatment structur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400" y="856800"/>
            <a:ext cx="8429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control – no nutrients add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fertilized with 70 kg N and 21 kg P [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FULL 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fertilized  with NPK compost or manure (3-5 t/ha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ndnut or soyabean or cowpea or pigeon pea fertilized with 5 kg P/ha [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HALF 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/pigeon pea intercrop fertilized with 70 kg N and 21 kg 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/field bean intercrop fertilized with  70 kg N and 21 kg 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A: Pigeon pea/groundnut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B: Pigeon pea/soybean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C: Pigeon pea/cowpea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2060"/>
                </a:solidFill>
                <a:uFillTx/>
                <a:latin typeface="Calibri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Unfertilized maize 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base yields depending soil resourc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Maize + mineral fertilizers NPKS 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water limited yield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Maize + manure/compost + NPKS </a:t>
            </a:r>
            <a:r>
              <a:rPr b="0" i="1" lang="en-ZW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water limited yield potential with inorganic -organic nutrient sources combi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by trial formulation and management 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360"/>
            <a:ext cx="84294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Action groups were formulated around each of the 8 mother trials,  resulting in 2 action groups per intervention si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ction groups comprised of at least 38 farmers, who actively participated in the establishment of the mother trial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Calibri"/>
              </a:rPr>
              <a:t>Action group members subsequently established baby trials based on the following rul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ore than 4 treatments were to be selected from the mother trial they had established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eatments were manda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Fertilized maize plot  - farmers were not given any fertilizer – they had to source using own resources, including fertilizers from the subsidy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Doubled-up legume: selection from any of  those included in the mother 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64008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tails on mother and baby t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714240"/>
          <a:ext cx="8786880" cy="5429520"/>
        </p:xfrm>
        <a:graphic>
          <a:graphicData uri="http://schemas.openxmlformats.org/drawingml/2006/table">
            <a:tbl>
              <a:tblPr/>
              <a:tblGrid>
                <a:gridCol w="828720"/>
                <a:gridCol w="995400"/>
                <a:gridCol w="1468440"/>
                <a:gridCol w="1106280"/>
                <a:gridCol w="1106640"/>
                <a:gridCol w="1093680"/>
                <a:gridCol w="1094040"/>
                <a:gridCol w="1093680"/>
              </a:tblGrid>
              <a:tr h="7765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tr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on sites (EP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ther trial host farm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ze varieties 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geon 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b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rowSpan="4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d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nth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yembekezo Chayera 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N 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fred Ja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9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olomo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sephine Pindu (5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kanakaufi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nedict Damson (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kanakauf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 rowSpan="4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tch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nd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lorence Od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7) Charl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ter Msow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y Mku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sipe action group _November 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Regis\Desktop\pictures_house\101MSDCF\DSC04769.JPG"/>
          <p:cNvPicPr/>
          <p:nvPr/>
        </p:nvPicPr>
        <p:blipFill>
          <a:blip r:embed="rId1"/>
          <a:stretch/>
        </p:blipFill>
        <p:spPr>
          <a:xfrm>
            <a:off x="928800" y="1249200"/>
            <a:ext cx="65894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ersification …intensifi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85920" y="2071800"/>
            <a:ext cx="33577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op diversification as one of the major themes of the ‘mother and baby’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Regis\Desktop\DSC05099.JPG"/>
          <p:cNvPicPr/>
          <p:nvPr/>
        </p:nvPicPr>
        <p:blipFill>
          <a:blip r:embed="rId1"/>
          <a:stretch/>
        </p:blipFill>
        <p:spPr>
          <a:xfrm>
            <a:off x="393840" y="1643040"/>
            <a:ext cx="567828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Doubled-up legu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– intercropping 2 legumes that are complementary/have little competition for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Regis\Desktop\DSC05020.JPG"/>
          <p:cNvPicPr/>
          <p:nvPr/>
        </p:nvPicPr>
        <p:blipFill>
          <a:blip r:embed="rId1"/>
          <a:stretch/>
        </p:blipFill>
        <p:spPr>
          <a:xfrm>
            <a:off x="1000080" y="1857240"/>
            <a:ext cx="6775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714680" y="2857680"/>
            <a:ext cx="1904760" cy="95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Corporate Comms\Downloads\icrisat_logo.jpg"/>
          <p:cNvPicPr/>
          <p:nvPr/>
        </p:nvPicPr>
        <p:blipFill>
          <a:blip r:embed="rId2"/>
          <a:stretch/>
        </p:blipFill>
        <p:spPr>
          <a:xfrm>
            <a:off x="1214280" y="857160"/>
            <a:ext cx="1981440" cy="62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Corporate Comms\Downloads\IFPRI logo (green).jpg"/>
          <p:cNvPicPr/>
          <p:nvPr/>
        </p:nvPicPr>
        <p:blipFill>
          <a:blip r:embed="rId3"/>
          <a:stretch/>
        </p:blipFill>
        <p:spPr>
          <a:xfrm>
            <a:off x="6357960" y="2143080"/>
            <a:ext cx="838080" cy="131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>
            <a:off x="3857760" y="714240"/>
            <a:ext cx="1290600" cy="3973680"/>
          </a:xfrm>
          <a:prstGeom prst="rect">
            <a:avLst/>
          </a:prstGeom>
          <a:ln w="0">
            <a:noFill/>
          </a:ln>
        </p:spPr>
      </p:pic>
      <p:sp>
        <p:nvSpPr>
          <p:cNvPr id="96" name="Title 1"/>
          <p:cNvSpPr/>
          <p:nvPr/>
        </p:nvSpPr>
        <p:spPr>
          <a:xfrm rot="16200000">
            <a:off x="-757080" y="2614320"/>
            <a:ext cx="3071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LUAN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1714680" y="5072040"/>
            <a:ext cx="6858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Malawi Agric Extension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5143680" y="928800"/>
            <a:ext cx="308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CI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5286240" y="3929040"/>
            <a:ext cx="2786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ICRA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eat mixtur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Regis\Desktop\pictures_house\101MSDCF\DSC0512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ize +pigeon p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C:\Users\Regis\Desktop\pictures_house\101MSDCF\DSC0500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fter harvesting companion crop, pigeon pea continues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and produces its own g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. plus soil fertility replenish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vestock =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1154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od and nutritional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Regis\Pictures\20-03-2013\DSC05133.JPG"/>
          <p:cNvPicPr/>
          <p:nvPr/>
        </p:nvPicPr>
        <p:blipFill>
          <a:blip r:embed="rId1"/>
          <a:stretch/>
        </p:blipFill>
        <p:spPr>
          <a:xfrm>
            <a:off x="357120" y="1500120"/>
            <a:ext cx="5346720" cy="3571920"/>
          </a:xfrm>
          <a:prstGeom prst="rect">
            <a:avLst/>
          </a:prstGeom>
          <a:ln w="0">
            <a:noFill/>
          </a:ln>
        </p:spPr>
      </p:pic>
      <p:sp>
        <p:nvSpPr>
          <p:cNvPr id="150" name="Title 1"/>
          <p:cNvSpPr/>
          <p:nvPr/>
        </p:nvSpPr>
        <p:spPr>
          <a:xfrm>
            <a:off x="5929200" y="1571760"/>
            <a:ext cx="300060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yabean has the best per capita protein production compared to any known agricultural enterpris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9917280" y="636480"/>
            <a:ext cx="2286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 capita protein production through soya can remains supr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nde = soil organic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Users\Regis\Desktop\pictures_house\101MSDCF\DSC05126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posing farmers to agric intensification technologies ...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Regis\Pictures\20-03-2013\DSC05141.JPG"/>
          <p:cNvPicPr/>
          <p:nvPr/>
        </p:nvPicPr>
        <p:blipFill>
          <a:blip r:embed="rId1"/>
          <a:stretch/>
        </p:blipFill>
        <p:spPr>
          <a:xfrm>
            <a:off x="928800" y="185724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214560" y="-360"/>
            <a:ext cx="96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.. and IITA, USAID, and MSU administrators in the field to see our intensification ideas at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Users\Regis\Desktop\DSC05113.JPG"/>
          <p:cNvPicPr/>
          <p:nvPr/>
        </p:nvPicPr>
        <p:blipFill>
          <a:blip r:embed="rId1"/>
          <a:srcRect l="10855" t="20381" r="0" b="0"/>
          <a:stretch/>
        </p:blipFill>
        <p:spPr>
          <a:xfrm>
            <a:off x="0" y="1357200"/>
            <a:ext cx="9220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400" y="1499760"/>
            <a:ext cx="828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Agro-ecological intensification of smallholder agriculture through action resea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rmgard in Linthipe, Dedza 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Users\Regis\Desktop\pictures_house\101MSDCF\DSC05109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.... Farmers and researchers determine yields toge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Postharvest issue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flatoxin contamination worsened by storage of grain at high moisture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rain moisture and aflatoxin – can we invest in moisture me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or but happy at last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Regis\Desktop\DSC04972.JPG"/>
          <p:cNvPicPr/>
          <p:nvPr/>
        </p:nvPicPr>
        <p:blipFill>
          <a:blip r:embed="rId1"/>
          <a:stretch/>
        </p:blipFill>
        <p:spPr>
          <a:xfrm>
            <a:off x="1184400" y="1600200"/>
            <a:ext cx="6480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 invest in training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Regis\Desktop\pictures_house\101MSDCF\DSC04676.JPG"/>
          <p:cNvPicPr/>
          <p:nvPr/>
        </p:nvPicPr>
        <p:blipFill>
          <a:blip r:embed="rId1"/>
          <a:stretch/>
        </p:blipFill>
        <p:spPr>
          <a:xfrm>
            <a:off x="1285920" y="1285920"/>
            <a:ext cx="6804000" cy="5102280"/>
          </a:xfrm>
          <a:prstGeom prst="rect">
            <a:avLst/>
          </a:prstGeom>
          <a:ln w="0">
            <a:noFill/>
          </a:ln>
        </p:spPr>
      </p:pic>
      <p:sp>
        <p:nvSpPr>
          <p:cNvPr id="169" name="Title 1"/>
          <p:cNvSpPr/>
          <p:nvPr/>
        </p:nvSpPr>
        <p:spPr>
          <a:xfrm>
            <a:off x="1571760" y="4857840"/>
            <a:ext cx="6143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Calibri"/>
              </a:rPr>
              <a:t>Dedza, Nov 2012 workshop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70c0"/>
                </a:solidFill>
                <a:latin typeface="Arnprior"/>
              </a:rPr>
              <a:t>Dry bones can live again ..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Users\Regis\Desktop\DSC0508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What we know…the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7888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mallholder farmers have traditionally developed 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risk-aver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anagement practices in an effort to ensure meeting their 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subsistence food nee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1680" y="3643200"/>
            <a:ext cx="77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actices are largely </a:t>
            </a: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sub-optimal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en under </a:t>
            </a: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favourab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limatic condi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intensification strategy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2000160"/>
            <a:ext cx="8358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duc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surplu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ood i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favourab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seasons and have less shocks in future bad seas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link between agricultural intensification and building of local safety nets in a changing 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more resilient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Are technological options to achieve this availabl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71800" y="3428640"/>
            <a:ext cx="58579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558ed5"/>
                </a:solidFill>
                <a:latin typeface="Calibri"/>
              </a:rPr>
              <a:t>Yes/ou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Any problem the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400" y="1857240"/>
            <a:ext cx="87152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58ed5"/>
                </a:solidFill>
                <a:latin typeface="Calibri"/>
              </a:rPr>
              <a:t>Yes – inappropriate packaging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58ed5"/>
                </a:solidFill>
                <a:latin typeface="Calibri"/>
              </a:rPr>
              <a:t>Farmers fail to relate well with nice technolo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inappropriate learning platform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technologies coming as rigid packages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Wholesome uptake unlik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rigidity stifling local inno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428840"/>
            <a:ext cx="8286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current biophysical and socio-economic constraints to increase quality, quantity and diversity of crop and livestock products? (RO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 are the agricultural technology options that are amenable to sustainable intensification and concurrently alleviate poverty, improve nutrition and ecosystem stability? (RO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effective are the different technological options under different biophysical and socioeconomic conditions in achieving  poverty alleviation, improve nutrition and ecosystem stability? (RO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major factors that determine farmers’ participation in field-based learning platforms and subsequent influence on their use of soil fertility and livestock production intensification technologies? (RO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key ingredients for effective co-learning,  technology adaptation, scaling and delivery to farmers in heterogeneous farming syste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20" y="1857240"/>
            <a:ext cx="82296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Calibri"/>
              </a:rPr>
              <a:t>Making experimentation with farmers (action research) a joy .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0:17:23Z</dcterms:created>
  <dc:creator>Regis</dc:creator>
  <dc:description/>
  <dc:language>en-US</dc:language>
  <cp:lastModifiedBy>USAID</cp:lastModifiedBy>
  <dcterms:modified xsi:type="dcterms:W3CDTF">2013-06-06T21:50:32Z</dcterms:modified>
  <cp:revision>164</cp:revision>
  <dc:subject/>
  <dc:title>Slide 1</dc:title>
</cp:coreProperties>
</file>